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98C-3049-4181-8C58-42CD6FBC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08A-8A1B-4CBA-94AE-6539F09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1B0-8B99-455D-A8F2-C076EDA0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2C0-F451-4EED-9D9A-6D6C21F1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C7B-E3C5-464A-A193-F1A60B77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1A8-6434-491B-86CC-2030006E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31E-08C2-4CBF-8920-9F9307F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9C6-FC4A-4817-B65A-E99092CC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B08-ADF7-49A3-8F2F-9570CFC8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F87-71FF-4953-9817-C841771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EB1-C56A-4F4E-8FED-C377EBF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994-521F-455D-94ED-0D42772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69CB-8EB4-42FB-A92B-2D60B6A2C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5e8d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2637000"/>
            <a:ext cx="828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2f17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Геоморфологические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2f17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исследования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b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692360" y="1628640"/>
          <a:ext cx="5688000" cy="4657680"/>
        </p:xfrm>
        <a:graphic>
          <a:graphicData uri="http://schemas.openxmlformats.org/drawingml/2006/table">
            <a:tbl>
              <a:tblPr/>
              <a:tblGrid>
                <a:gridCol w="1295280"/>
                <a:gridCol w="259236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 txBox="1"/>
          <p:nvPr/>
        </p:nvSpPr>
        <p:spPr>
          <a:xfrm>
            <a:off x="684360" y="476280"/>
            <a:ext cx="786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блица нивел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определении высоты я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92360" y="1682640"/>
          <a:ext cx="58323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82640"/>
                    <a:ext cx="58323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 txBox="1"/>
          <p:nvPr/>
        </p:nvSpPr>
        <p:spPr>
          <a:xfrm>
            <a:off x="826920" y="260280"/>
            <a:ext cx="7777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морфологический профи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ого берега ре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832720"/>
          </a:xfrm>
          <a:prstGeom prst="rect">
            <a:avLst/>
          </a:prstGeom>
          <a:solidFill>
            <a:srgbClr val="abfca2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Результаты геоморфологических исследований позволяют судить о рельефе земной поверхности – ведущем элементе географического ландшафта, определяющий характер остальны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выявить основные формы рельеф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выявить масштабы и направления эро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составить прогнозы дальнейшего развития овражно-балочной 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охарактеризовать влияние эрозионных процессов на хозяйственную деятельност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660033"/>
                </a:solidFill>
                <a:uFillTx/>
                <a:latin typeface="Arial"/>
              </a:rPr>
              <a:t>Инструменты и снаряжение</a:t>
            </a:r>
            <a:r>
              <a:rPr b="0" lang="en-US" sz="3600" spc="-1" strike="noStrike" u="sng">
                <a:solidFill>
                  <a:srgbClr val="660033"/>
                </a:solidFill>
                <a:uFillTx/>
                <a:latin typeface="Arial"/>
              </a:rPr>
              <a:t>: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атерпас, рулетка, сажень, нивелир, рейка-метровка, эклиметр, компас, гипсотермометр, буссоль, теодолит, канцелярские принадлежности (блокнот, карандаш, лист А4, транспортир, линей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61d57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лан работы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азбивка магистрали продольной нивелир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одольная нивелиров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меры высоты я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перечная ватерпасовка правого бе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перечная ватерпасовка левого бе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меральная обработка данных нивелировок и ватерпасо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63640" y="404640"/>
            <a:ext cx="5962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ьная нивелир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25360"/>
            <a:ext cx="7993080" cy="1373760"/>
          </a:xfrm>
          <a:prstGeom prst="rect">
            <a:avLst/>
          </a:prstGeom>
          <a:solidFill>
            <a:srgbClr val="cccc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одольная нивелировка пров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 целью определения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уклона рек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на учас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11120" y="4097160"/>
            <a:ext cx="578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708280"/>
            <a:ext cx="7417080" cy="3655800"/>
          </a:xfrm>
          <a:prstGeom prst="rect">
            <a:avLst/>
          </a:prstGeom>
          <a:solidFill>
            <a:srgbClr val="b9e5c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лгоритм выполнения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Разбивают магистраль, протяженностью 1 км на участке реки вдоль её берега с помощью реперов (коль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ивелированием, определяют высоту падения реки (её проводят по мере движения против теч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Результаты нивелирования вносят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. Вычисляют уклон реки на участке по формуле: уклон= падение/длина магистр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1341360"/>
            <a:ext cx="5143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2492280"/>
            <a:ext cx="5257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7136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92360" y="2636640"/>
            <a:ext cx="18288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708360" y="4581360"/>
            <a:ext cx="316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1916280"/>
            <a:ext cx="13716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716360" y="2349360"/>
            <a:ext cx="54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1360" y="14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160" y="15148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440" y="2049840"/>
            <a:ext cx="61822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ый бер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960" y="2585520"/>
            <a:ext cx="561996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ый берег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48222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истраль   1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260280"/>
            <a:ext cx="896472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хема прохождения магистра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ьной нивелиров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1746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58920" y="333360"/>
            <a:ext cx="684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перчная ватерпасо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200" y="4745160"/>
            <a:ext cx="83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79736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перечные ватерпасовки берегов проводятся с целью определения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крутизны берегов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характера русла, поймы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 Результаты этих работ необходимы при составлении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геоботанических профилей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907920"/>
          <a:ext cx="73152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7920"/>
                    <a:ext cx="73152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47640" y="1052640"/>
          <a:ext cx="655344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052640"/>
                    <a:ext cx="655344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 txBox="1"/>
          <p:nvPr/>
        </p:nvSpPr>
        <p:spPr>
          <a:xfrm>
            <a:off x="1332000" y="333360"/>
            <a:ext cx="691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ределение высоты я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79736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</a:rPr>
              <a:t>Высоту яров определяют с целью выявления масштабов эрозионных процессов, его характера и направления. Его результаты важны для определения степени опасности во время прохождения водных маршрутов, а также для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484360" y="1125360"/>
          <a:ext cx="4608720" cy="4680000"/>
        </p:xfrm>
        <a:graphic>
          <a:graphicData uri="http://schemas.openxmlformats.org/drawingml/2006/table">
            <a:tbl>
              <a:tblPr/>
              <a:tblGrid>
                <a:gridCol w="863640"/>
                <a:gridCol w="1728720"/>
                <a:gridCol w="20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 txBox="1"/>
          <p:nvPr/>
        </p:nvSpPr>
        <p:spPr>
          <a:xfrm>
            <a:off x="468360" y="404640"/>
            <a:ext cx="8296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блица ватерпасовки правого бере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1:53:09Z</dcterms:created>
  <dc:creator>www.PHILka.RU</dc:creator>
  <dc:description/>
  <dc:language>en-US</dc:language>
  <cp:lastModifiedBy>User</cp:lastModifiedBy>
  <dcterms:modified xsi:type="dcterms:W3CDTF">2011-01-30T13:46:32Z</dcterms:modified>
  <cp:revision>6</cp:revision>
  <dc:subject/>
  <dc:title>Слайд 1</dc:title>
</cp:coreProperties>
</file>